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0587-6967-4D5C-B168-BE723B8F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CF5C-6A69-4B10-B023-7AFB9A91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AB5E-87B4-45A2-823D-550755F86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BE1F-0E7A-4B66-B3AD-E2F8E8B6C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CF1E-DE96-4C82-9709-7C32E53D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0E5E-F293-42FD-8B9B-EE815408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A9AD-03FE-4A66-AEEA-396421267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EE35-C809-43AD-A152-0EE764D1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AFD6-540D-4EFE-9B8D-3DD6E8D4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5140-DFB7-42FF-B4A1-CB8B8222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52ED-F876-40F2-8CC1-AC0912A5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C20A-3BB0-420E-96B7-B3366B19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481B-1173-4A26-9678-37DFA1E6245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609480"/>
            <a:ext cx="6400800" cy="457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2548080"/>
            <a:ext cx="6400800" cy="533160"/>
          </a:xfrm>
          <a:prstGeom prst="ellipse">
            <a:avLst/>
          </a:prstGeom>
          <a:gradFill rotWithShape="0">
            <a:gsLst>
              <a:gs pos="0">
                <a:srgbClr val="29292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68800" y="1546200"/>
            <a:ext cx="784080" cy="762120"/>
          </a:xfrm>
          <a:prstGeom prst="ellipse">
            <a:avLst/>
          </a:prstGeom>
          <a:gradFill rotWithShape="0">
            <a:gsLst>
              <a:gs pos="0">
                <a:srgbClr val="333501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676520" y="914400"/>
            <a:ext cx="1447560" cy="1447920"/>
          </a:xfrm>
          <a:prstGeom prst="ellipse">
            <a:avLst/>
          </a:prstGeom>
          <a:gradFill rotWithShape="0">
            <a:gsLst>
              <a:gs pos="0">
                <a:srgbClr val="0000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762120"/>
            <a:ext cx="6400800" cy="3124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219320"/>
            <a:ext cx="6400800" cy="31240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1676520"/>
            <a:ext cx="6400800" cy="3124080"/>
          </a:xfrm>
          <a:prstGeom prst="line">
            <a:avLst/>
          </a:prstGeom>
          <a:ln w="9360">
            <a:solidFill>
              <a:srgbClr val="0000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33640" y="9460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蒼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91440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蒼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28920" y="155556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60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の</a:t>
            </a:r>
            <a:r>
              <a:rPr b="0" i="1" lang="ja-JP" sz="60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星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24200" y="2514600"/>
            <a:ext cx="229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no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　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ＭＳ 明朝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Sei tet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14520" y="24382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A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81400" y="24163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ＭＳ 明朝"/>
              </a:rPr>
              <a:t>A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228600"/>
            <a:ext cx="8229600" cy="5943600"/>
          </a:xfrm>
          <a:prstGeom prst="rect">
            <a:avLst/>
          </a:prstGeom>
          <a:gradFill rotWithShape="0">
            <a:gsLst>
              <a:gs pos="0">
                <a:srgbClr val="4d4d4d"/>
              </a:gs>
              <a:gs pos="100000">
                <a:srgbClr val="1c1c1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62120" y="533160"/>
            <a:ext cx="6705360" cy="5181480"/>
          </a:xfrm>
          <a:prstGeom prst="line">
            <a:avLst/>
          </a:prstGeom>
          <a:ln w="255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762120" y="1981080"/>
            <a:ext cx="7543800" cy="3733920"/>
          </a:xfrm>
          <a:prstGeom prst="line">
            <a:avLst/>
          </a:prstGeom>
          <a:ln w="255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467480" y="533520"/>
            <a:ext cx="838440" cy="1447560"/>
          </a:xfrm>
          <a:prstGeom prst="line">
            <a:avLst/>
          </a:prstGeom>
          <a:ln w="255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371600" y="609480"/>
            <a:ext cx="21718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HG正楷書体-PRO"/>
              </a:rPr>
              <a:t>銀</a:t>
            </a:r>
            <a:endParaRPr b="0" lang="en-US" sz="9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HG正楷書体-PRO"/>
              <a:ea typeface="HG正楷書体-PRO"/>
            </a:endParaRPr>
          </a:p>
        </p:txBody>
      </p:sp>
      <p:sp>
        <p:nvSpPr>
          <p:cNvPr id="59" name=""/>
          <p:cNvSpPr/>
          <p:nvPr/>
        </p:nvSpPr>
        <p:spPr>
          <a:xfrm>
            <a:off x="3376440" y="1295280"/>
            <a:ext cx="19432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0" spc="-1" strike="noStrike">
                <a:solidFill>
                  <a:srgbClr val="ccecff"/>
                </a:solidFill>
                <a:latin typeface="Times New Roman"/>
                <a:ea typeface="HG正楷書体-PRO"/>
              </a:rPr>
              <a:t>の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1219320"/>
            <a:ext cx="19432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0" spc="-1" strike="noStrike">
                <a:solidFill>
                  <a:srgbClr val="000000"/>
                </a:solidFill>
                <a:latin typeface="Times New Roman"/>
                <a:ea typeface="HG正楷書体-PRO"/>
              </a:rPr>
              <a:t>の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143680" y="533520"/>
            <a:ext cx="2628720" cy="22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HG正楷書体-PRO"/>
              </a:rPr>
              <a:t>楔</a:t>
            </a:r>
            <a:endParaRPr b="0" lang="en-US" sz="66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HG正楷書体-PRO"/>
              <a:ea typeface="HG正楷書体-PRO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-114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銀の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289548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　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r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　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g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　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　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r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　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i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　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　　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W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　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　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d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　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g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　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ＭＳ 明朝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62120" y="609480"/>
            <a:ext cx="6400800" cy="457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548080"/>
            <a:ext cx="6400800" cy="533160"/>
          </a:xfrm>
          <a:prstGeom prst="ellipse">
            <a:avLst/>
          </a:prstGeom>
          <a:gradFill rotWithShape="0">
            <a:gsLst>
              <a:gs pos="0">
                <a:srgbClr val="29292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68800" y="1546200"/>
            <a:ext cx="784080" cy="762120"/>
          </a:xfrm>
          <a:prstGeom prst="ellipse">
            <a:avLst/>
          </a:prstGeom>
          <a:gradFill rotWithShape="0">
            <a:gsLst>
              <a:gs pos="0">
                <a:srgbClr val="333501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914400"/>
            <a:ext cx="1447560" cy="1447920"/>
          </a:xfrm>
          <a:prstGeom prst="ellipse">
            <a:avLst/>
          </a:prstGeom>
          <a:gradFill rotWithShape="0">
            <a:gsLst>
              <a:gs pos="0">
                <a:srgbClr val="0000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762120"/>
            <a:ext cx="6400800" cy="31240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1219320"/>
            <a:ext cx="6400800" cy="31240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2120" y="1676520"/>
            <a:ext cx="6400800" cy="3124080"/>
          </a:xfrm>
          <a:prstGeom prst="line">
            <a:avLst/>
          </a:prstGeom>
          <a:ln w="9360">
            <a:solidFill>
              <a:srgbClr val="0000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yonaga</cp:lastModifiedBy>
  <dcterms:modified xsi:type="dcterms:W3CDTF">2011-11-12T05:01:23Z</dcterms:modified>
  <cp:revision>10</cp:revision>
  <dc:subject/>
  <dc:title>PowerPoint Presentation</dc:title>
</cp:coreProperties>
</file>